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wmf" ContentType="image/x-wmf"/>
  <Override PartName="/ppt/media/image4.png" ContentType="image/png"/>
  <Override PartName="/ppt/media/image8.jpeg" ContentType="image/jpeg"/>
  <Override PartName="/ppt/media/image5.gif" ContentType="image/gif"/>
  <Override PartName="/ppt/media/image10.gif" ContentType="image/gif"/>
  <Override PartName="/ppt/media/image6.gif" ContentType="image/gif"/>
  <Override PartName="/ppt/media/image7.jpeg" ContentType="image/jpeg"/>
  <Override PartName="/ppt/media/image12.jpeg" ContentType="image/jpeg"/>
  <Override PartName="/ppt/media/image11.jpeg" ContentType="image/jpeg"/>
  <Override PartName="/ppt/media/image13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7F8C-D37B-40B3-8F96-B198C57DF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537F-64AF-4A64-9117-C12A40D79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4AB7-75D9-4925-A70F-2D50B3B26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DADA-4C39-4873-A4AD-EDC29F70D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43BD-683B-498A-AF46-D9D71CAAE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8C7D-1703-4873-8997-08CB3304D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5B83-969B-4DF1-8C4E-EE1FA9327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F1B1-4DCD-4335-914F-910FF8725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193E-28E1-49D0-8CDD-2EF790872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2945-22D7-422D-9B3C-EF5FA99D1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FB0A-2A3F-44F2-BDA8-1823A719E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B4C4-FB63-4B43-9074-71A259C6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B6EC7-D999-4DCE-BED4-CFC1233A73A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4.xml"/><Relationship Id="rId3" Type="http://schemas.openxmlformats.org/officeDocument/2006/relationships/slide" Target="slide15.xml"/><Relationship Id="rId4" Type="http://schemas.openxmlformats.org/officeDocument/2006/relationships/image" Target="../media/image3.wmf"/><Relationship Id="rId5" Type="http://schemas.openxmlformats.org/officeDocument/2006/relationships/slide" Target="slide14.xml"/><Relationship Id="rId6" Type="http://schemas.openxmlformats.org/officeDocument/2006/relationships/slide" Target=""/><Relationship Id="rId7" Type="http://schemas.openxmlformats.org/officeDocument/2006/relationships/image" Target="../media/image4.png"/><Relationship Id="rId8" Type="http://schemas.openxmlformats.org/officeDocument/2006/relationships/image" Target="../media/image5.gif"/><Relationship Id="rId9" Type="http://schemas.openxmlformats.org/officeDocument/2006/relationships/image" Target="../media/image6.gif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18.xml"/><Relationship Id="rId3" Type="http://schemas.openxmlformats.org/officeDocument/2006/relationships/image" Target="../media/image13.gif"/><Relationship Id="rId4" Type="http://schemas.openxmlformats.org/officeDocument/2006/relationships/slide" Target="slide18.xml"/><Relationship Id="rId5" Type="http://schemas.openxmlformats.org/officeDocument/2006/relationships/image" Target="../media/image13.gif"/><Relationship Id="rId6" Type="http://schemas.openxmlformats.org/officeDocument/2006/relationships/slide" Target="slide18.xml"/><Relationship Id="rId7" Type="http://schemas.openxmlformats.org/officeDocument/2006/relationships/image" Target="../media/image13.gif"/><Relationship Id="rId8" Type="http://schemas.openxmlformats.org/officeDocument/2006/relationships/slide" Target="slide18.xml"/><Relationship Id="rId9" Type="http://schemas.openxmlformats.org/officeDocument/2006/relationships/image" Target="../media/image13.gif"/><Relationship Id="rId10" Type="http://schemas.openxmlformats.org/officeDocument/2006/relationships/slide" Target="slide18.xml"/><Relationship Id="rId11" Type="http://schemas.openxmlformats.org/officeDocument/2006/relationships/image" Target="../media/image13.gif"/><Relationship Id="rId1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52280" y="-380880"/>
            <a:ext cx="9753480" cy="7353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 rot="419400">
            <a:off x="2285640" y="1219320"/>
            <a:ext cx="44593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53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做阳光少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3" name=""/>
          <p:cNvSpPr/>
          <p:nvPr/>
        </p:nvSpPr>
        <p:spPr>
          <a:xfrm>
            <a:off x="2286000" y="2819520"/>
            <a:ext cx="53341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阳光是什么？阳光是一种思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阳光是一种行为，是我们每个青少年积极向上的人生态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我们站在阳光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我们比阳光更加耀眼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50920" y="1413000"/>
            <a:ext cx="88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（七）桌面墙面，莫乱涂画；垃圾杂物，弃置有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052000" y="2637000"/>
            <a:ext cx="4874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桌面、墙面、黑板、衣服或学校、班、级的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贴物，各有各的用途，不应在上面乱涂乱画，垃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杂物，脏水污物应扔在垃圾筐、垃圾筒、垃圾篓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倒在剩饭菜筒里，而不应随意丢弃、将残羹剩饭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在饭桌上或倒在地上，污染校园环境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中学生校园礼仪规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11280" y="1628640"/>
            <a:ext cx="74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（八）进出校门，主动下车，微笑致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17800" y="2924280"/>
            <a:ext cx="1054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进出校门、宿舍大门时，骑自行车的同学应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动下车推行，并出示或在显眼位置佩带校牌。不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值日的同学、老师，还是生活导师、保安人员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应点头微笑致意，主动接受检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中学生校园礼仪规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79280" y="134136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（九）上课考试，休息时间，尊重他人，保持安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2349360"/>
            <a:ext cx="83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上课考试时，不在校园内喧哗、吵闹，更不该在课室附近聚集、玩闹，或在正在上课、考试的课室门口、窗前向内观望、召唤、言谈吵闹，影响老师和同学的上课或考试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午休、晚休，应按时就寝，不在宿舍和宿舍内玩耍、吵闹，或发出惊扰他人的声响。迟归的同学，应轻手轻脚，避免扰人清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中学生校园礼仪规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95280" y="1484280"/>
            <a:ext cx="87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（十）升旗仪式，庄严肃穆，着装整齐，端正严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619800" y="2637000"/>
            <a:ext cx="1593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参加升旗仪式，是爱国主义的一项重要体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仪式上，应统一穿着校服，态度要严谨，站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要端正，安静，整齐，精神饱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中学生校园礼仪规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5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979280" y="805680"/>
            <a:ext cx="427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文明人”自测：你是一个文明的人吗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280" y="1482840"/>
            <a:ext cx="650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升国旗时，你能肃立，行注目礼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能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时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1981080" y="2430720"/>
            <a:ext cx="821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你平时说脏话吗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说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很少说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常说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3397320"/>
            <a:ext cx="637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路上见到老师，你会主动上前问好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时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4260960"/>
            <a:ext cx="64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你有过破坏公物、乱扔粉笔的行为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没有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过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经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6560" y="5104080"/>
            <a:ext cx="626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你能和同学友好相处、并互相帮助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的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很少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没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39800" y="1152720"/>
            <a:ext cx="620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你会乱扔垃圾吗？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没有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偶尔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经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9640" y="2160720"/>
            <a:ext cx="78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看见校园有垃圾，你会捡起来并扔进垃圾桶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会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时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4360" y="410544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你能按时独立完成作业，不抄袭别人作业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能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时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3097440"/>
            <a:ext cx="78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你能够做到上课认真听讲，不讲话做小动作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会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时     　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5042160"/>
            <a:ext cx="744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参加各种集会能准时到达，安静听讲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能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时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244160" y="1818360"/>
            <a:ext cx="643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说明：选择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得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，选择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得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，选择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得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9640" y="2655000"/>
            <a:ext cx="777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分数为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30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－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2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分：你是个讲文明，懂礼貌的人。举止言谈文明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与老师、父母、同学相处融洽，人际关系好，是个受欢迎的人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1280" y="3572280"/>
            <a:ext cx="756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分数为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22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－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1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分：一般情况下，你是个文明的人，但有时可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没有认真对待一些事情，特别是一些小事，人际关系一般，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个比较受欢迎的人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1280" y="4671000"/>
            <a:ext cx="741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分数为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14—1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分：许多情况下，你是个不文明的人，人际关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定很差，是个不受欢迎的人。要注意咯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50" autoRev="1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69" dur="250" autoRev="1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70" dur="250" autoRev="1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250" autoRev="1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74" dur="250" autoRev="1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75" dur="250" autoRev="1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8" dur="250" autoRev="1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79" dur="250" autoRev="1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80" dur="250" autoRev="1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331280" y="63324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猜谜大比拼（礼貌用语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626120" y="14119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双胞胎赖被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56680" y="1413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对不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67800" y="1987920"/>
            <a:ext cx="117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叶落花也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95480" y="19875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谢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618200" y="2635920"/>
            <a:ext cx="154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无可奈何花落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0" y="2637000"/>
            <a:ext cx="8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感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04440" y="33066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愿花常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756680" y="3284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不用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67800" y="3860640"/>
            <a:ext cx="117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辛苦了司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95480" y="3879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劳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87280" y="436464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放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354320" y="48679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单人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35080" y="548532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第二次会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37600" y="43848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不要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16280" y="4960800"/>
            <a:ext cx="125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对不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765320" y="5608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再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74480" y="60616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行为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65320" y="6111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走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628640" y="1955160"/>
            <a:ext cx="3228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做一个讲文明，知礼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的中学生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，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以小我铸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大我，共同构建我们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和谐校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867280" y="836640"/>
            <a:ext cx="28116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438280" y="1219320"/>
            <a:ext cx="5639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曾看到过这样一则报道，说的是新加坡，新加坡是一个通用英语的国家，这个国家的公共场所的各种标语大多是用英语书写。但其中的一些文明礼貌的标语，如“不准随地吐痰”、“禁止吸烟”、“不准进入草坪”等却用中文书写。为什么呢？人家回答：“因为有这些不文明行为的大多数是中国大陆的游客。”为此，到新加坡考察的一位中学校长语重心长地说：“不文明行为也是国耻。” 不知大家是否记得，中央电视台曾经报道，国庆节后的天安门广场，随处可见口香糖残迹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万平方米的天安门广场上竟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万块口香糖残渣，有的地方不到一平方米的地面上，竟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块口香糖污迹，密密麻麻的斑痕与天安门广场的神圣和庄严形成了强烈反差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 rot="5400000">
            <a:off x="-360" y="2209680"/>
            <a:ext cx="2895840" cy="10666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宋体"/>
              </a:rPr>
              <a:t>美文赏析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>
            <a:hlinkClick r:id="rId2" action="ppaction://hlinksldjump"/>
          </p:cNvPr>
          <p:cNvSpPr/>
          <p:nvPr/>
        </p:nvSpPr>
        <p:spPr>
          <a:xfrm>
            <a:off x="1693440" y="1752480"/>
            <a:ext cx="172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  </a:t>
            </a:r>
            <a:r>
              <a:rPr b="0" lang="zh-CN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1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、礼仪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3" action="ppaction://hlinksldjump"/>
          </p:cNvPr>
          <p:cNvSpPr/>
          <p:nvPr/>
        </p:nvSpPr>
        <p:spPr>
          <a:xfrm>
            <a:off x="3809880" y="304812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81280" y="403848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不是       ，是提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5029200"/>
            <a:ext cx="769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   </a:t>
            </a:r>
            <a:r>
              <a:rPr b="1" i="1" lang="zh-CN" sz="44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礼仪是无时不在，无处不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375680" y="63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7315200" y="1143000"/>
            <a:ext cx="1547640" cy="3429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219320" y="4952880"/>
            <a:ext cx="601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95680" y="17524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表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5" action="ppaction://hlinksldjump"/>
          </p:cNvPr>
          <p:cNvSpPr/>
          <p:nvPr/>
        </p:nvSpPr>
        <p:spPr>
          <a:xfrm>
            <a:off x="3581280" y="175248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 </a:t>
            </a:r>
            <a:r>
              <a:rPr b="0" lang="zh-CN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不是    ，是细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295280" y="4038480"/>
            <a:ext cx="270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 </a:t>
            </a:r>
            <a:r>
              <a:rPr b="0" lang="zh-CN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3</a:t>
            </a:r>
            <a:r>
              <a:rPr b="0" lang="zh-CN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、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培训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343400" y="4038480"/>
            <a:ext cx="107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目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429000"/>
            <a:ext cx="609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43000" y="2895480"/>
            <a:ext cx="603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   </a:t>
            </a:r>
            <a:r>
              <a:rPr b="0" lang="zh-CN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2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、尊重——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30481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忍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6" action="ppaction://hlinksldjump"/>
          </p:cNvPr>
          <p:cNvSpPr/>
          <p:nvPr/>
        </p:nvSpPr>
        <p:spPr>
          <a:xfrm>
            <a:off x="3733920" y="304812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不是       ，是双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5743440" y="0"/>
            <a:ext cx="3400560" cy="9586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8"/>
          <a:stretch/>
        </p:blipFill>
        <p:spPr>
          <a:xfrm>
            <a:off x="8077320" y="5762520"/>
            <a:ext cx="1066680" cy="10954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9"/>
          <a:stretch/>
        </p:blipFill>
        <p:spPr>
          <a:xfrm>
            <a:off x="282600" y="614520"/>
            <a:ext cx="1396800" cy="8143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828800" y="8380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首先，行为习惯是组成阳光的一部分，中学生能够遵守文明礼仪，就是阳光的重要体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8600" y="60948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明礼仪，不仅是个人素质、教养的体现，也是个人道德和社会公德的体现。更是城市的脸面，更是国家的脸面。作为具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0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年文明史的“礼仪之邦”，讲文明、用礼仪，也是弘扬民族文化、展示民族精神的重要途径。古人说，“不学礼，无以立”。就是说，你不学“礼”，就没法在社会中立身。这足以可见古人对文明礼仪的注重。而身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世纪的阳光少年，我们不是更应该去践行文明，讲究礼仪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明其实是由细节构成的，而看看我们学校的学生，不文明的现象也有不少。例如，在我们的校园内、楼梯上总能见到与我们美丽的校园极不和谐的纸屑；小店门口食品袋、方便面盒随处可见。食堂里插队，浪费粮食，吃完后把餐盘随意扔在桌上的行为也并不少。再例如有的同学在教学楼走廊上追逐打闹，走路推推搡搡习以为常；还有部分同学相互之间讲脏话、粗话，甚至还有个别同学故意损坏学校的公共财物。这些都是极不文明的行为，是极不阳光的行为。为此学校还特别成立了督察小组，监督同学们的行为。为的就是要杜绝那些不文明的行为，希望我们每一个七星学子都能成为一个讲文明，讲礼仪的阳光好少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为此我们应积极响应学校的号召，谨记老师的谆谆教导，严格遵守中学生日常行为准则，遵守校纪校规，养成良好的文明习惯，做文明的中学生。请我们每一个人管住我们的嘴巴，做到不说粗话、不随地吐痰；管住我们的手，不乱扔垃圾、不打架斗殴；管住我们的脚，不践踏草坪，不踢打学校公共设施。我相信，只要我们每个人努力的去遵守文明礼仪，践行文明礼仪，做一个阳光好少年。那么经过我们全体师生共同努力，一定会创造出一个文明美好的校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447920" y="1676520"/>
            <a:ext cx="67816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当然在注重行为阳光的同时，我们也要保证自己的心理阳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使自己的心理健康向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900000" y="549360"/>
            <a:ext cx="7786800" cy="54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中小学生心理健康的标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智力正常——胜任学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良好的人际关系——人际和谐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正确的自我意识——客观评价自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健康的情绪——稳定愉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正视现实，把握现实——敢于进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心理表现符合年龄特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心理康复能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中学生心理问题的主要表现及成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第一、学习类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恐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厌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二、人际关系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与教师的关系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与同学的关系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与父母关系的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三、情感类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227640" y="3645000"/>
            <a:ext cx="27561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中学生中比较普遍地存在的心理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自卑心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抑郁心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闭锁心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焦虑异常心理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恐惧心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易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逆反心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嫉妒心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猜疑心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厌学心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03200" y="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活动过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871560"/>
            <a:ext cx="854064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全体宣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23960" y="1562040"/>
            <a:ext cx="75056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我们宣誓：向不文明现象宣战，争做文明学生，创建文明校园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使自己的心灵沐浴阳光，争做阳光好少年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                                                                  ——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九年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班全体同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666880" y="304920"/>
            <a:ext cx="6193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1.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尊敬老师，礼貌招呼老师。不顶撞老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上课认真听讲，记笔记，不打瞌睡，不做与课堂无关的事情。按时按质完成作业。给老师一个愉悦的心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预备铃响，立刻进入教室，静待老师到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每逢教师节，对老师道一声“老师，您幸苦了，节日快乐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5.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刻苦钻研，认真学习，力争以自己最好的成绩来回报老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2362320"/>
            <a:ext cx="233352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班主任寄语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44956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听听老师的期望。。。。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2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086280" y="533520"/>
            <a:ext cx="342720" cy="3427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590920" y="685800"/>
            <a:ext cx="342720" cy="3430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81280" y="457200"/>
            <a:ext cx="343080" cy="3430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610160" y="685800"/>
            <a:ext cx="342720" cy="3430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4114800" y="533520"/>
            <a:ext cx="343080" cy="3427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279360" y="3975120"/>
            <a:ext cx="8699400" cy="1373760"/>
          </a:xfrm>
          <a:prstGeom prst="rect">
            <a:avLst/>
          </a:prstGeom>
          <a:solidFill>
            <a:srgbClr val="0066c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0" lang="zh-CN" sz="4400" spc="-1" strike="noStrike">
                <a:solidFill>
                  <a:srgbClr val="67ffac"/>
                </a:solidFill>
                <a:latin typeface="Times New Roman"/>
                <a:ea typeface="隶书"/>
              </a:rPr>
              <a:t>阳光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是一粒最有生命力的种子，它会在我们的精神世界里发芽、开花、结果，指导我们的人生观、世界观，让把文明之花播撒到生活中！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258840"/>
            <a:ext cx="1600200" cy="97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结束语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247680"/>
            <a:ext cx="9144000" cy="66103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295280" y="1243080"/>
            <a:ext cx="6782040" cy="54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考试作弊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在校园内抽烟、酗酒、聚众赌博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在教室等学习场所喧哗吵闹，影响他人学习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休息时间吵闹，影响他人休息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给老师、同学起绰号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随意吐痰，乱扔果皮纸屑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课堂不文明，不尊重老师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破坏校内公共设施、设备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在桌椅、图书和教室、宿舍墙上乱涂乱画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买饭菜时随意插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80880" y="114480"/>
            <a:ext cx="4648320" cy="140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学生不文明行为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中学生校园礼仪规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907920"/>
            <a:ext cx="97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（一）言语要文明，见面问声好。友善共相处热情礼相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68480" y="1628640"/>
            <a:ext cx="51717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　　“请”、“你好”、“对不起”、“谢谢”等文明用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应常挂嘴边，不说污言秽语，不给别人起不文明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绰号。文明礼貌的言语往往能拉近人与人的距离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缓和矛盾，增进团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　　走在楼梯、校道上，遇到自己的同学、老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等都应主动问声好，让一声问候温暖彼此的心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　　对同学、老师、父母、亲人态度要友善、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诚、守时守信，不弄虚作假；对来宾、客人热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相待，回答询问大方得体、知无不言、不卑不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979640" y="126828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（二）衣着应端庄，仪态要规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78920" y="2492280"/>
            <a:ext cx="4874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　　作为学生，应该有学生的衣着、仪表。不穿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装异服，不袒露躯体，束好皮带，不穿拖鞋，不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首饰，不化妆，不纹身，不剃光头或留古怪发型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男同学不留长发，女同学不披头散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中学生校园礼仪规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24000" y="1341360"/>
            <a:ext cx="88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（三）领物取物，主动排队，相互礼让，井然有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910520" y="2421000"/>
            <a:ext cx="4944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　　领取物品，饭堂打饭，水房打水，应主动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队，不插队，不推撞，不起哄，相互礼让，井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有序才能提高效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中学生校园礼仪规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95280" y="1773360"/>
            <a:ext cx="87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（四）他人宿舍，非请莫进；他人财物，未准莫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2852640"/>
            <a:ext cx="770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别班的教室、宿舍、老师的办公室乃至器材仪器室、实验室等地，需进入时应先征得老师同意；当这些场所没有人时，非特殊批准，不要进入。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这是对他人的尊重，也是一种自我保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他人的财物、日记、作文等，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应尊重他人的权益和隐私，不随意拿用，翻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中学生校园礼仪规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201560" y="13413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（五）走道楼梯，人来人往，你谦我让，主动留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36440" y="2565360"/>
            <a:ext cx="1217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校道、走廊、楼梯是公共通道，要相互谦让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主动留道给他人通过，不在这些通道上聚集、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闹，也不将自行车车停放在校道、走廊或运动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域上，以免影响他人通行和运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中学生校园礼仪规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68360" y="1700280"/>
            <a:ext cx="89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（六）弱小贫困，帮扶资助；残疾病患，文明相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17800" y="3068640"/>
            <a:ext cx="1054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对于有困难，需要帮助的同学、老师，应主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给予帮助，对于身体有缺陷、有疾病的同学和老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要文明相待，给予关心，而不应讽刺、讥笑、捉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或恶意模仿，做出不文明的举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中学生校园礼仪规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3T17:04:10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0:30:54Z</dcterms:modified>
  <cp:revision>1</cp:revision>
  <dc:subject>主题班会课件(分28大类): http://shop62905894.taobao.com</dc:subject>
  <dc:title>主题班会课件(分28大类): http://shop62905894.taobao.com</dc:title>
</cp:coreProperties>
</file>